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6E7-37BA-459E-AFAD-44587E29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E3A-76A1-4038-9287-68EE2BF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90B-A276-45E2-8621-646BAA3B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85A-A732-43AB-B2D3-61A4765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D716-B4E9-46C9-B433-5E4FBFB2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3C3-F9C6-439D-ADB2-10DB36EA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0F1-AD79-4781-844B-699CC44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DDB-8DF1-48E2-9B7C-B3D8662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B38-4F96-4AC5-AD55-275C09BD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968-EDCF-4A7D-A40D-BEEC603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E66-39C3-4513-81A9-42A07577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194-C7E3-45C5-89CE-7BD31087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9F0-E8EA-4CAA-98FF-5F1B70B63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16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0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5.xml"/><Relationship Id="rId19" Type="http://schemas.openxmlformats.org/officeDocument/2006/relationships/slide" Target="slide24.xml"/><Relationship Id="rId20" Type="http://schemas.openxmlformats.org/officeDocument/2006/relationships/slide" Target="slide40.xml"/><Relationship Id="rId21" Type="http://schemas.openxmlformats.org/officeDocument/2006/relationships/slide" Target="slide26.xml"/><Relationship Id="rId22" Type="http://schemas.openxmlformats.org/officeDocument/2006/relationships/slide" Target="slide28.xml"/><Relationship Id="rId23" Type="http://schemas.openxmlformats.org/officeDocument/2006/relationships/slide" Target="slide28.xml"/><Relationship Id="rId24" Type="http://schemas.openxmlformats.org/officeDocument/2006/relationships/slide" Target="slide30.xml"/><Relationship Id="rId25" Type="http://schemas.openxmlformats.org/officeDocument/2006/relationships/slide" Target="slide30.xml"/><Relationship Id="rId26" Type="http://schemas.openxmlformats.org/officeDocument/2006/relationships/slide" Target="slide32.xml"/><Relationship Id="rId27" Type="http://schemas.openxmlformats.org/officeDocument/2006/relationships/slide" Target="slide32.xml"/><Relationship Id="rId28" Type="http://schemas.openxmlformats.org/officeDocument/2006/relationships/slide" Target="slide34.xml"/><Relationship Id="rId29" Type="http://schemas.openxmlformats.org/officeDocument/2006/relationships/slide" Target="slide34.xml"/><Relationship Id="rId30" Type="http://schemas.openxmlformats.org/officeDocument/2006/relationships/slide" Target="slide36.xml"/><Relationship Id="rId31" Type="http://schemas.openxmlformats.org/officeDocument/2006/relationships/slide" Target="slide36.xml"/><Relationship Id="rId32" Type="http://schemas.openxmlformats.org/officeDocument/2006/relationships/slide" Target="slide38.xml"/><Relationship Id="rId33" Type="http://schemas.openxmlformats.org/officeDocument/2006/relationships/slide" Target="slide44.xml"/><Relationship Id="rId34" Type="http://schemas.openxmlformats.org/officeDocument/2006/relationships/slide" Target="slide42.xml"/><Relationship Id="rId35" Type="http://schemas.openxmlformats.org/officeDocument/2006/relationships/slide" Target="slide16.xml"/><Relationship Id="rId36" Type="http://schemas.openxmlformats.org/officeDocument/2006/relationships/slide" Target="slide46.xml"/><Relationship Id="rId37" Type="http://schemas.openxmlformats.org/officeDocument/2006/relationships/slide" Target="slide46.xml"/><Relationship Id="rId38" Type="http://schemas.openxmlformats.org/officeDocument/2006/relationships/slide" Target="slide50.xml"/><Relationship Id="rId39" Type="http://schemas.openxmlformats.org/officeDocument/2006/relationships/slide" Target="slide26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sity and Atomic Theory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: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Double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8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ff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eams will have time to work on this question, you need not be the first raised hand to answ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 wager.  Your wager must be less than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50"/>
                            </p:stCondLst>
                            <p:childTnLst>
                              <p:par>
                                <p:cTn id="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has a density of 10.00 g/mL.  If its volume is doubled but its mass remains constant, this is its new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5.000 g/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ue or false: there is nothing smaller than an a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al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re the subatomic particles that make up the nucleus of an ato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tons and neutr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subatomic particles carry a negative charge, and their number and arrangement are primarily what determines an atom’s vol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electr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0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6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0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2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3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4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5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m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asurement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an atom has 37 protons, how many electrons would you expect it to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ron (atomic number: 5) has five protons.  It has two stable isotopes, the most common of which has 6 neutrons.  How many bonds will Boron tend to form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Hint: draw a full or Lewis Dot Diagram to help you figure it ou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3 bo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equation for densi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sink in liquid when their densities are this compared to the density of the flu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eater th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length the object (1) being measured by this cali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38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.48 cm? (2.47, 2.475, 2.485, 2.49, and 2.495 can also be argued based on this dia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density of an object is 6.00 g/mL, this is its density in g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6.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 = M/V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specific gravity of quartz is 2.65, that means that a sample of quartz is __ as dense as wa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2.6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mass of a mineral hanging in the air off a triple beam balance is 5.00 g.  When submerged in water, its weight is 2.50 g.  What is its specific gravity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2.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asing an object’s volume does this to its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teams will have time to work on this question, you need not be the first raised hand to answer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ose a wager.  Your wager must be less than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ecr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reasing an object’s mass does this to its dens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cre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object has a density of 2.00 g/mL, and a volume of 4 mL.  This is its m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09-12-11T15:04:12Z</dcterms:modified>
  <cp:revision>122</cp:revision>
  <dc:subject/>
  <dc:title>No Slide Title</dc:title>
</cp:coreProperties>
</file>